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E23-8F5E-4876-90B1-41BBB7BA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469-821E-4342-9D9E-15195A90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362E-E0E4-45E6-8ACE-A0FFFD86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E22A-DA83-40A0-B18E-8B6BAAC7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009-9B91-4DB0-B3EE-37531343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6EC-A761-4612-890B-BB132F5F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B69-0B34-4597-A694-54AE64D9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9A9-6222-4CC6-A36F-2E71E5C6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FB3-FF9A-4743-A99F-CB0EAA10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AA3B-0EC8-4225-BEC5-341FA515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BF0D-DBE0-49CD-BDDB-BD481849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0C6-E5BA-449C-B4AD-A8F0DA10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ADCD-386F-426E-A6FA-275284BF95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ze and Evaluate Plan for Frontloading Activity, Get Feedback and Suggestions for Essential Qs and Culminating Performance Task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necting to Our Experienc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ship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arning is Situational:  “Any human activity—whether internal or external—is in fact allowed, encouraged, shaped and constrained by the particular situation in which it occurs” (Activity Theory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How Would You Characterize Your Internship Situation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ntor teacher (relationship, procedures, theories about teaching and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ossi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Control” and “Can’t Control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ring Ou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96240" cy="12794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s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lle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’t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1600200" y="762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ing Where W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Frontloading Activit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 Sh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plan for frontload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heck She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 ideas/possibilities for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 2 in Planning Proc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idence will show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--will the knowledge and skills they perform transfer to new and authentic situations in their l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Concept—doing what the experts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forms for demonstrat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rics—understanding and performance (products and proc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Culminating Project/Summative Performanc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Notice?  What Does it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ice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Means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2:43:42Z</dcterms:created>
  <dc:creator>Phil Bear</dc:creator>
  <dc:description/>
  <dc:language>en-US</dc:language>
  <cp:lastModifiedBy>Phil Bear</cp:lastModifiedBy>
  <dcterms:modified xsi:type="dcterms:W3CDTF">2011-02-22T22:34:46Z</dcterms:modified>
  <cp:revision>6</cp:revision>
  <dc:subject/>
  <dc:title>Our Goals for Today: Analyze and Evaluate Plan for Frontloading Activity, Get Feedback and Suggestions for Essential Qs and Culminating Performance Task Ideas</dc:title>
</cp:coreProperties>
</file>